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29A-E53E-4237-B145-68B5BC34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B1D-B6B0-4540-BF6C-1DB7D2DF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05C-6E8C-47CE-BD1D-6E93BAE2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7A7-AEB2-4801-821F-CDE86664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072-C862-4856-9002-35C2217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38D-CDFF-40EA-AE4E-FCC061B8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D71-F712-4A24-A34C-2D96F480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A1E-CA96-4844-BA38-686395E9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CE4-777C-4E5E-A571-47F2755F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B56-71E6-4FEE-9169-DBB11EA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F25-874B-411B-8CE8-929762E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B4C-7F36-48D2-9C83-66BA215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1 - Introduction to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8A3D-4CB2-42AC-B4A9-32CD35228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troduction t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09480"/>
            <a:ext cx="8382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220-FB6D-4384-9D27-9D17CBCACE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-orien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tform-indepen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a program will run unchanged on a PC, Mac, or Unix work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-independent graphics are built directly into th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428-6D0C-41D0-B76C-02DD3AF61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ncipal Elements of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programming language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Virtual Machine (JV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virtual computer” that executes Java code identically, regardless of host comput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ust be a custom JVM for each type of computer executing Java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Java Application Programming Interface (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standard classes built into th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1341-83E9-4ACF-9FBA-6E7ABD7DCF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oftware component that 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ncorpo-r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havi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are actions that can be performed with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re stor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are hidden from the outsid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haviors are implemen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protect the data from direct modification by the outsid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819-D1E4-4949-B62F-65DDC2E666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contain a nucleus of data surrounded and protected by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thods form an interface between the data and the outsid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communicate by calling each other’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19920" y="2666880"/>
          <a:ext cx="185724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666880"/>
                    <a:ext cx="185724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8A3-0060-41E8-92CB-741E0AA58A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communicate by calling each other’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all has three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of the object being called followed by a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of the method to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parameters needed by the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8320" y="2438280"/>
          <a:ext cx="404316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438280"/>
                    <a:ext cx="404316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16A-C5CE-49E9-887A-FBDF2C4357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oftware blueprints from which objects are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definition specifies the number and type of instance variables to include in an object, and the methods that implement the behavior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bjects can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anti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a single class defin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456-0EB4-4795-BC51-7D0463BAC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antiating Obj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bjects can b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stan-t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a sing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defined in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bjects from the class share the same method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800600" y="1600200"/>
          <a:ext cx="3821040" cy="43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382104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47B-A2FE-4DF7-B2F7-E21481930D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irst Java Pro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57400" y="2362320"/>
          <a:ext cx="6629400" cy="239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362320"/>
                    <a:ext cx="662940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676520" y="33526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5400" y="30733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8360" y="40640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362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590920"/>
            <a:ext cx="10670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560" y="548640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934320" y="4495680"/>
            <a:ext cx="4572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9DA-DB31-43A2-9BD6-6028F20EFF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01:27:35Z</dcterms:created>
  <dc:creator>Stephen J. Chapman</dc:creator>
  <dc:description/>
  <dc:language>en-US</dc:language>
  <cp:lastModifiedBy>Stephen J. Chapman</cp:lastModifiedBy>
  <cp:lastPrinted>1999-09-20T05:18:50Z</cp:lastPrinted>
  <dcterms:modified xsi:type="dcterms:W3CDTF">1999-09-20T05:19:24Z</dcterms:modified>
  <cp:revision>35</cp:revision>
  <dc:subject/>
  <dc:title>Master</dc:title>
</cp:coreProperties>
</file>