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media/image24.png" ContentType="image/png"/>
  <Override PartName="/ppt/media/image23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39.png" ContentType="image/png"/>
  <Override PartName="/ppt/media/image9.png" ContentType="image/png"/>
  <Override PartName="/ppt/media/image13.wmf" ContentType="image/x-wmf"/>
  <Override PartName="/ppt/media/image37.wmf" ContentType="image/x-wmf"/>
  <Override PartName="/ppt/media/image7.png" ContentType="image/png"/>
  <Override PartName="/ppt/media/image36.wmf" ContentType="image/x-wmf"/>
  <Override PartName="/ppt/media/image6.wmf" ContentType="image/x-wmf"/>
  <Override PartName="/ppt/media/image1.wmf" ContentType="image/x-wmf"/>
  <Override PartName="/ppt/media/image31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29.png" ContentType="image/png"/>
  <Override PartName="/ppt/media/image32.wmf" ContentType="image/x-wmf"/>
  <Override PartName="/ppt/media/image2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67A7-1D8F-4387-B951-6C9D78EE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705-872A-4FF9-8355-08A68716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D8B8-4FB5-492B-9C1A-077BEB69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94B-077D-4ECC-A944-472CBA40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FD5-A254-4213-B37E-3251FF51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327-2EE2-4EE5-B0DA-4C687784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314-3DAD-478B-8FF1-8BD75264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E5C-F0FF-4292-B8CA-01C8C443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76C-F7F2-4122-B939-CE0E14F9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B8C-3684-4283-9B41-D440D8E6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221-A6E1-4364-87C5-84672829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6AE-9027-4098-AE42-152AB4B7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9 - Graphical User Interfaces and Appl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FADF-DC00-4567-9521-1C120455A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52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ntroduction t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09480"/>
            <a:ext cx="8382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User Interfaces and Ap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C1F2-E2FD-4FA4-861C-2F4C909ECB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s and Event Handling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is known as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nt hand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cause it performs whatever steps are required to process the ev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any cases, the event handler makes a call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back 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object that created the GUI, since such methods can update instance variables within the object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revious example,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uttonHand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a listener, its method actionPerformed was an event handler, and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pdate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a callback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6B5-38AB-42F5-B6C4-B9EDF32770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s and Event Handling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revious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ouse click on the button creates an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vent is sent to the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sends the event to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-Perform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 of the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ButtonHandl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method calls the metho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Labe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allb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Lab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s the 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70836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C17-4A87-422C-A3D2-3568E9D6B7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object that displays a single lin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d-only text and/or an im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o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pond to mouse clicks or keyboard in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Labe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Label(String 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Label(String s, int horizontalAlignm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Label(Icon imag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Label(Icon image, int horizontalAlignm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Label(String s, Icon image, int horizontalAlignm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onstructors create a label containing tex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m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259-E4F6-4533-A333-99D6D95E77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las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828800"/>
          <a:ext cx="6248520" cy="43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624852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B610-0918-4A54-AE14-68176E5973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905120"/>
          <a:ext cx="6705720" cy="341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670572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095880" y="2971800"/>
            <a:ext cx="2362320" cy="1189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 flipV="1">
            <a:off x="5181480" y="2971800"/>
            <a:ext cx="990720" cy="3808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181120" y="3657600"/>
            <a:ext cx="2133720" cy="763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790960" y="4114800"/>
            <a:ext cx="1066680" cy="4572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270-DAB0-439A-B1A1-9F687CB74C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creates a pushbu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mouse clicks on a button,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generated and passed to any registered liste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Butt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Button(String 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Button(Icon imag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Button(String s, Icon imag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onstructors create a pushbutton containing tex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m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A6B-D0D5-4A81-BFEE-2DA6F92157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Creating Butt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600200"/>
          <a:ext cx="571644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57164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8320" y="2970360"/>
            <a:ext cx="4044960" cy="819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 flipV="1">
            <a:off x="3352680" y="1905120"/>
            <a:ext cx="1981440" cy="13716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895480" y="2971800"/>
            <a:ext cx="3353040" cy="4572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352320" y="3505320"/>
            <a:ext cx="3962520" cy="9144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31C-8C20-4194-B94E-81AFC4B5B3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v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gener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s when an event (mouse click) occurs o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stener class for these events must implemen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face, and hav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ion-Perfor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listener object must be registered to listen f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on each but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mouse click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of the corresponding listener object will be called to handle th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466-018B-4014-A997-5B618B3D29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creates a text f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user types text and presses th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,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generated and passed to any registered liste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TextFiel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TextField(int col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TextField(String 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TextField(String s, int col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onstructors create a text field containing a blank space large enough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acters, the text str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238D-C12D-4315-BC3A-139C630B06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PasswordFie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PasswordFie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is identical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PasswordFie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, except the text typed into the field is not visible.  Instead, a string of asterisks are shown to represent the characters ty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PasswordFiel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PasswordField(int col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PasswordField(String 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PasswordField(String s, int col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C69-B298-45F3-A8B8-39FE6BD05D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va GU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ava SDK contains to different Graphical User Interfaces (GU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Abstract Windowing Toolkit (AWT), which contained the original Java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wing package, which is a newer, more flexible Java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he Swing GUI is taught in this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60D-188E-4E1B-BF23-6357867CE3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876920" y="2819520"/>
            <a:ext cx="4038480" cy="1320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Creating Text Fiel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657600" y="2819520"/>
            <a:ext cx="2209680" cy="3808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191120" y="3429000"/>
            <a:ext cx="1676160" cy="304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590920" y="3809880"/>
            <a:ext cx="3047760" cy="9907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133720"/>
          <a:ext cx="5487840" cy="3047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133720"/>
                    <a:ext cx="548784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372-2E40-4E5E-A181-FF2ABC1172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field in which a user can either type text or select a choice from a drop down list of op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ComboBox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ComboBox( Object[]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ComboBox( Vector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onstructors create a combo containing list of choices 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ser can be forced to select from the drop down list only using th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Editable(fals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8BE-F7C1-490C-BF88-904BE4B956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Creating Combo Box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267080" y="4648320"/>
            <a:ext cx="4496040" cy="1133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H="1" flipV="1">
            <a:off x="2743200" y="4647960"/>
            <a:ext cx="1828800" cy="685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514600" y="3276720"/>
            <a:ext cx="3276720" cy="17524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-228600" y="2666880"/>
          <a:ext cx="6095880" cy="2370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" y="2666880"/>
                    <a:ext cx="609588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B26-75F3-4D7B-BF44-0F3304B0C1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creates a special type of button that toggles between “on” and “off” each time it is clic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looks like a small box with a check mark, but it is really a full-fledged but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d Constru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CheckBox( String s, boolean stat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CheckBox( Icon image, boolean stat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CheckBox( String s, Icon image, boolean stat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onstructors create a check box containing tex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m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both, in initial sta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D06-3842-4E94-84D9-F2C3354011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-228600" y="1752480"/>
          <a:ext cx="6326280" cy="42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752480"/>
                    <a:ext cx="6326280" cy="42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Creating Check Box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572000" y="3468600"/>
            <a:ext cx="4419720" cy="1173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2971800" y="4343400"/>
            <a:ext cx="3124080" cy="3808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00400" y="4419720"/>
            <a:ext cx="3581280" cy="9903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560" y="2438280"/>
            <a:ext cx="2361960" cy="1447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962520" y="3657240"/>
            <a:ext cx="2209680" cy="304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581-0380-4078-A0F0-F66729F0B3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creates a radio button, a small circle with a dot in the center when “o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d Constru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RadioButton( String s, boolean stat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RadioButton( Icon image, boolean stat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JRadioButton( String s, Icon image, boolean stat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onstructors create a radio button containing tex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m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both, in initial sta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7DC-609A-4296-9BED-A016304E9F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ton Grou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buttons are grouped together into groups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tton group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button within a group may be on at any time.  If one is turned on, the other radio buttons in the group will be forced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ButtonGroup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AbstractButton b);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// Add button to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remove(AbstractButton b);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// Remove from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D8B-A5D9-438A-BFAA-734847862E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52280" y="2057400"/>
          <a:ext cx="5562720" cy="37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57400"/>
                    <a:ext cx="556272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Creating Radio Butt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267080" cy="1131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 flipV="1">
            <a:off x="3580920" y="2437920"/>
            <a:ext cx="1752840" cy="304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19360" y="2819520"/>
            <a:ext cx="1600200" cy="2286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724280" y="2895480"/>
            <a:ext cx="1905120" cy="5335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105520" y="2895480"/>
            <a:ext cx="2133360" cy="10670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4952880"/>
            <a:ext cx="2286000" cy="131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sures that the 4 radio buttons are mutually exclu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5029200"/>
            <a:ext cx="1752480" cy="6094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2F34-B045-474C-9E01-73C77AC229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yout Manag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yout manag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lasses that control the location of components within a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676520" y="2438280"/>
          <a:ext cx="5551200" cy="357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438280"/>
                    <a:ext cx="555120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74D-8123-482B-A52E-2EDAE6C398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Layout Manag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yout manager arranges components in five regions, known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u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BorderLayou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BorderLayout(int horizontalGap, int verticalGa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yout manager is associated with a container using the container’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Layout( new BorderLayout()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are added to specific regions with a special option of the container’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new Button("North"), BorderLayout.NORT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layout manager f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068A-4E69-4D65-8E59-BF8312B03B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GUIs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s provide a user with a familiar environment in which to work, with push buttons, menus, drop-down lists, text fields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-based programs are harder to program, since they must be ready for mouse clicks or keyboard input to any component at any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se clicks or keyboard inputs are known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GUI-based program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nt-driv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614-ED56-41BA-891E-F747F46A05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304920" y="2971800"/>
          <a:ext cx="7164360" cy="119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71643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Creating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562720" y="2819520"/>
            <a:ext cx="3124080" cy="150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A0B-566D-4584-BDD0-307045FEF53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Layout Manag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yout manag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nges com-ponents in order from left to right and top to bottom across a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FlowLayou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FlowLayout(int alig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FlowLayout(int align, int horizontalGap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int verticalGa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lignment can 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E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layout manager f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85C-5714-4D65-B00A-D1F205D0649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Creating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04920" y="2057400"/>
          <a:ext cx="6170400" cy="13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617040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724280" y="3657600"/>
            <a:ext cx="3429000" cy="165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9CC-838B-4A30-B6DC-7BDC89383D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Layout Manag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yout manager arranges components in a rigid rectangular grid struc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GridLayout(int rows, int col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ublic GridLayout(int rows, int cols, int horizGap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int vertGa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are added to the grid in order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 to 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p to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20C-3808-41EC-85F1-CB36C9327F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Creating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09480" y="1600200"/>
          <a:ext cx="4648320" cy="177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464832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505320"/>
            <a:ext cx="3619440" cy="174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E1E-69D9-4CB1-A086-97A02AD1FF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xLayou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Layout Manag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x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yout manager arranges components within a container in a single row or a single colum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pacing and alignment of each element on each row or column can be individually controll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ers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x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nagers can be nested inside each other to produce complex lay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BoxLayout(Container c, int direct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rection can 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_AX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_AX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id areas and glue regions can be used to space out components with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xLay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FA55-91C0-4951-8D45-EEB0E13E621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Creating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x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01680" y="1596960"/>
          <a:ext cx="5406840" cy="301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1596960"/>
                    <a:ext cx="5406840" cy="30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562720" y="3809880"/>
            <a:ext cx="2895480" cy="232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468E-8095-48DF-A519-0900FF472B6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bining Layout Managers to Produce a Resu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just the look you want, it is sometimes useful to create multiple containers inside each other, each with its own layout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a top-level panel might use a horizontal box layout, and that panel may contain two or more panels using vertical box layo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 is complete control of component spacing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m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B83-4E55-4334-AA0D-DFBCD006EF8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228600" y="1676520"/>
          <a:ext cx="4971960" cy="442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497196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Nested Containers and Layou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257800" y="2057400"/>
          <a:ext cx="3429000" cy="201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057400"/>
                    <a:ext cx="34290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257800" y="4952880"/>
            <a:ext cx="3505320" cy="981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H="1">
            <a:off x="4876920" y="2209680"/>
            <a:ext cx="45720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666880" y="2590920"/>
            <a:ext cx="2895840" cy="759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742840" y="2590920"/>
            <a:ext cx="4419720" cy="3045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352320" y="2971800"/>
            <a:ext cx="2590920" cy="12952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819160" y="2819520"/>
            <a:ext cx="4647960" cy="19047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276720" y="3505320"/>
            <a:ext cx="2743200" cy="18288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895480" y="3505320"/>
            <a:ext cx="4724640" cy="22096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02960" y="1676520"/>
            <a:ext cx="12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54520" y="4495680"/>
            <a:ext cx="9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EA9-84F1-42D8-A46D-2B2828A7254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pplet is a special kind of Java program that is designed to run inside a Web 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subclass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x.swing.JAppl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pp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is simila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that components must be attached to its content p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pp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 is simila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that the default layou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s are usually restricted from accessing computer resources (files, etc.) on the local computer for security 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A10-AB36-474A-821B-815B2D1EB4F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GUIs Work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UI consist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represent elements on the screen such as push buttons, text field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old the components.  The containers in this chapter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yout Mana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control the placement of GUI components within the contain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 handl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spond to mouse clicks or keyboard inputs on any component or container in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464-736F-40E5-AA72-B9FDEDDBCC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et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applet has 5 standard 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— called by the browser when the applet is first loaded into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— called by the browser to start animations running when the applet is made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— called by the browser to stop animations running when the applet is covered or min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stro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— called by the browser just before the applet is destr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— called when the applet is drawn or re-dra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05F-DD15-49C4-958B-EA5167DBF91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et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 methods will always be called in the ord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tr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be called many times during the life of an 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5 methods are implemented as dummy methods in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ppl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dummy method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heri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ll ap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ts overr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methods that they need to perform their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E01-A6FA-43F0-8F03-EA42B7077DC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ating an Appl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an appl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subclass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pp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old GUI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layout manager for the container, if the default layout manager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not accep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components and add them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ent p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pp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“listener” objects to detect and respond to the events expected by each GUI component, and assign the listeners to appropriate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n HTML text file to specify to the browser which Java applet should be loaded and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17F-D57B-4E4E-8403-3D98063B2D1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Creating an Appl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371600"/>
          <a:ext cx="5487840" cy="48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548784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6019920" y="2057400"/>
            <a:ext cx="2590560" cy="131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simple applet implement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heri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l other methods as dumm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3657600"/>
            <a:ext cx="2590560" cy="131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all components are added to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entPa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pp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971800" y="2819520"/>
            <a:ext cx="3048120" cy="3808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0DC-619F-4A79-9333-40AC7BC9E49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Creating an Applet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1752480"/>
            <a:ext cx="2590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ener class for button on 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31720" y="1911240"/>
          <a:ext cx="4815000" cy="197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1911240"/>
                    <a:ext cx="48150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 flipV="1">
            <a:off x="4419720" y="2133360"/>
            <a:ext cx="1676160" cy="759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4419720"/>
          <a:ext cx="5487840" cy="609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419720"/>
                    <a:ext cx="5487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505320" y="5410080"/>
            <a:ext cx="25905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code to start applet in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4876920"/>
            <a:ext cx="1067040" cy="9144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6324480" y="2971800"/>
            <a:ext cx="2210040" cy="179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F6FA-9E57-4F4D-BA17-B191277FF35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tion of Class Files for Appl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 applet uses a class that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ilt into a package, that class must be present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me direc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the HTML file used to start the 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irectory could be local or remote—it doesn’t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files can be transferred over the net, so they should be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105520" y="2971800"/>
          <a:ext cx="359892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971800"/>
                    <a:ext cx="359892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943-B904-49B6-A717-BB43D05F1B2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Packages with Appl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 applet us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n-stand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ckage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ackage must appear in the appropriate 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subdirec-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directory containing the HTML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irectory could be local or remote—it doesn’t 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PA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ignored by applet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800600" y="1905120"/>
          <a:ext cx="382284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05120"/>
                    <a:ext cx="382284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343400" y="5105520"/>
            <a:ext cx="289548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of class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chapman.io.Fm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in package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chapman.i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238880" y="4952880"/>
            <a:ext cx="609840" cy="6098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EF0-C113-4A20-AAD0-E248F07BFAF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ating Dual Application / Appl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application does not need to perform I/O or other restricted tasks, it can be structured to run both as an applet and an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the program as an 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with calls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calls to stop and destroy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indowClo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of the Window hand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program can be more versat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CD8-7222-45B5-B9CE-0FB7E0F2514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al Application / Appl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80880" y="1752480"/>
          <a:ext cx="5257800" cy="284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525780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4343400" y="5105520"/>
            <a:ext cx="28954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 in appl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4191120"/>
            <a:ext cx="2133720" cy="11430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42C-D7A6-4081-A5B4-1B90727E398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al Application / Applet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62120" y="2133720"/>
          <a:ext cx="5487840" cy="350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54878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172200" y="3200400"/>
            <a:ext cx="25146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 call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B49-BB21-4628-8534-FB7F2C7AD84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ating and Displaying a GU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a GU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container class to hold the GUI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d create a layout manager for the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components and add them to the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“listener” objects to detect and respond to the events expected by each GUI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the listeners with appropriat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, and place the completed container in the center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nt p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ociated with the fr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295B-C397-4C61-B83B-DD603EE1A4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al Application / Applet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33520" y="2438280"/>
          <a:ext cx="5487840" cy="228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54878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943600" y="3124080"/>
            <a:ext cx="25146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ndowClos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 call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stro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439-3D23-4391-B3E2-E9C285C7453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al Application / Applet (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4648320"/>
            <a:ext cx="26672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ning as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200400" cy="12888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124080" cy="2320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029200" y="4648320"/>
            <a:ext cx="2666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ning as 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772-1EB3-450A-B671-DDAFCCE047B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 flipV="1">
            <a:off x="1828440" y="4800240"/>
            <a:ext cx="1676520" cy="152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666880" y="1498680"/>
          <a:ext cx="5259600" cy="46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498680"/>
                    <a:ext cx="5259600" cy="46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flipH="1">
            <a:off x="1828800" y="3657600"/>
            <a:ext cx="1752480" cy="763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 and Displaying a GUI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523880"/>
            <a:ext cx="13716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904760" y="1828800"/>
            <a:ext cx="1143000" cy="763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505320"/>
            <a:ext cx="13716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layou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1905120" y="2895120"/>
            <a:ext cx="1371600" cy="304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362320"/>
            <a:ext cx="13716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GUI 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828440" y="4191120"/>
            <a:ext cx="1676520" cy="4572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4343400"/>
            <a:ext cx="152388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GUI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86000" y="5715000"/>
            <a:ext cx="990720" cy="152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5334120"/>
            <a:ext cx="18288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(s) to implement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5334120"/>
            <a:ext cx="152388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listener for 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5029200"/>
            <a:ext cx="762120" cy="6094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D01-68BA-4618-9633-0ADC3783F7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286000" y="1295280"/>
          <a:ext cx="5335560" cy="50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95280"/>
                    <a:ext cx="533556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 flipH="1">
            <a:off x="1828800" y="3581280"/>
            <a:ext cx="1295280" cy="763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 and Displaying a GUI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295280"/>
            <a:ext cx="1371600" cy="673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904760" y="1676160"/>
            <a:ext cx="1143000" cy="152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3276720"/>
            <a:ext cx="13716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GUI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905120" y="2514600"/>
            <a:ext cx="1218960" cy="763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2133720"/>
            <a:ext cx="16002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nd add window 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209680" y="4724280"/>
            <a:ext cx="609840" cy="2286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4267080"/>
            <a:ext cx="1676160" cy="131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listener class for push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1447920"/>
            <a:ext cx="1676520" cy="131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, so the program start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1447920"/>
            <a:ext cx="1447920" cy="685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15200" y="3124080"/>
            <a:ext cx="1676520" cy="131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ed here, so GUI created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3200400"/>
            <a:ext cx="3200400" cy="304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1A5-175F-4798-8FE0-999C0475DF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ating and Displaying a GUI (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after three mouse clicks on the butt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3047760" cy="15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62B-D008-4990-8F37-992394882B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s and Event Hand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object that is created by some external action (mouse click, key pres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event such as a mouse click occur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ava automatically sends that event to the GUI object that was clicked 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event is received by the GUI object, the object checks to see if any listener object h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gi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it to receive the event, and it forwards the event to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of that obj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B81-69CD-41C3-A35B-8EE1F16B56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01:27:35Z</dcterms:created>
  <dc:creator>Stephen J. Chapman</dc:creator>
  <dc:description/>
  <dc:language>en-US</dc:language>
  <cp:lastModifiedBy>Stephen J. Chapman</cp:lastModifiedBy>
  <cp:lastPrinted>2000-04-05T19:58:35Z</cp:lastPrinted>
  <dcterms:modified xsi:type="dcterms:W3CDTF">2000-05-05T21:48:24Z</dcterms:modified>
  <cp:revision>303</cp:revision>
  <dc:subject/>
  <dc:title>Master</dc:title>
</cp:coreProperties>
</file>