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57B-E86D-48CB-AA31-BDFD6487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95C-9504-4889-9DE6-3E82C01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C24-14F4-4DA3-9B22-88EF063F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06E-C798-45A7-A703-C031B57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1BE-5B23-4C51-B0AE-9FE5F4B6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82A-B17A-4FF0-A2F6-80C83DFD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0F9-E162-47B2-AC10-6B3FEF84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509-0C92-4405-9338-88E4647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276-5BA2-4DEF-95D9-9C81BA1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6BB-A698-40C3-B659-37BD2A1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EF0-B155-4CF4-B112-DA323A8C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E1E-5F95-4D2E-B1FC-5730134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8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3 - Branches and Program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B913-03E8-4FF5-AE63-A475D1C91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es and Program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2ED-0E21-4859-A3CE-DAA85F1D45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ssentially a compac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 of this operator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boolean_exp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?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expr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expr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oolean expression is true, the result of this operator is expression 1.  Otherwise, the result of this operator is expression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–the following statements print out “Passed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grade = 8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ystem.out.println(grade &gt; 70 ? ”Passed" : ”Faile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4FB-3F79-4E1B-95BA-132D089F71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ructure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 permits a programmer to select a particular code block to execute based on the value of a sing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on.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3200400"/>
          <a:ext cx="701064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00400"/>
                    <a:ext cx="70106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CDB-48CE-4AEE-86C2-406E79FFB0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ructure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witch expression matches a particular case selector, the statements following that case selector will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witch expression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ch any case selector, then the statements following the default case selector will be exec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statements from the chosen case selector until the end of the structure will be execu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unle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included to stop execution!  The break state-ments are necessary for this structure to work properly.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AFC-E570-4478-BBCE-FFAE99C19C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 Design Process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ly state the problem that you are trying to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inputs required by the program and the outputs to be produced by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the program into classes and their associate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he algorithm that you intend to implement for each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the algorithm(s) into Java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the Jav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E3A-8870-4DC7-BC61-24E94DDD9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 Design Proces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352680" y="1447920"/>
          <a:ext cx="291780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2917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13E-D4F5-463E-9B38-85C56FED48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hybrid mixture of Java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tructured like Java, with a separate line for each distinct idea or segment of code, but the descriptions on each line are in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line of the pseudocode should describe its idea in plain, easily understandable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Prompt user to enter temperature in degrees Fahrenhei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Read temperature in degrees Fahrenheit (tempF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tempK in kelvins </a:t>
            </a:r>
            <a:r>
              <a:rPr b="0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(5./9.) * (tempF - 32) + 273.15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500" spc="-1" strike="noStrike">
                <a:solidFill>
                  <a:srgbClr val="000000"/>
                </a:solidFill>
                <a:latin typeface="Courier New"/>
              </a:rPr>
              <a:t>Write temperature in kelv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A97-4EBB-43BF-800C-792E3028F6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perator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wo numerical oper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yiel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rue/false) res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.6 &gt; 20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es the resul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971800"/>
          <a:ext cx="8001000" cy="293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800100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C58-C998-40AE-A137-DE5D3E291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perator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or two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per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yiel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rue/false) res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 the expression 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st1 || tes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2362320"/>
          <a:ext cx="6933960" cy="289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93396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F40-B601-40EE-9649-AE3C3551DA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erarchy of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within expressions are evaluated in the following or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2438280"/>
          <a:ext cx="8686800" cy="49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68680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C88-8CB5-461B-AB7B-C1CE700369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es that a statement will be execu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and only if a certain boolean expression is 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statements can be executed by including them in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f ( grade &gt; 7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ystem.out.println("Passe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f ( discr &gt; 0.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x1 = ( -b + Math.sqrt(discr) ) / (2.*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x2 = ( -b - Math.sqrt(discr) ) / (2.*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297-B6CF-4B85-A192-AC03AD67F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es that certain statements will be executed if a boolean expression is true, and different statements will be executed if the expression is fal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if ( discr &lt; 0.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ystem.out.println(”There are complex roots.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ystem.out.println(”There are real roots.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A55-0D11-4E89-BDAF-929B29D648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09-20T05:02:40Z</cp:lastPrinted>
  <dcterms:modified xsi:type="dcterms:W3CDTF">1999-09-20T05:02:46Z</dcterms:modified>
  <cp:revision>94</cp:revision>
  <dc:subject/>
  <dc:title>Master</dc:title>
</cp:coreProperties>
</file>