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0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4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wmf" ContentType="image/x-wmf"/>
  <Override PartName="/ppt/media/image2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54A-D8E2-4A9F-904E-398177E6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530-1178-43E2-8C67-56DD7528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11E-3890-4F4C-AB0D-89BE0189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E37-5F94-4770-9DF5-575F1E6F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B29-1ED2-4B6D-88B5-9D9487BE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1B9-25A2-4A03-B894-2AC37DEF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8BA-AD0D-4FCD-890A-B6811747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040-CCB6-4335-8A76-F5B18694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54A-4B60-4D84-8B9B-F7E3AE64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33E-F530-4113-805A-12B5E49D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63D2-9ABE-4A93-BB3E-BE007A0D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7BB-53BE-4A07-8790-55C1A7F8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8 - Introduction to Java 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4C7A-9252-4F81-9F09-FFBFBE47D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52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troduction t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09480"/>
            <a:ext cx="8382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to Java Grap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7B0-2327-40A8-AF10-920FD5959B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ine2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concrete classes for creating line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2D.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2D.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The only difference between them is the units of the calling parame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Line2D.Double( double x1, double y1, double x2, double y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Line2D.Float( float x1, float y1, float x2, float y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lasses create a line from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229-E264-48DF-816B-0868840E85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rolling Object Col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or of a graphics object is controll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or may be any object of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awt. Col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ncluding the following pre-defined valu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676520" y="4038480"/>
          <a:ext cx="5540400" cy="15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038480"/>
                    <a:ext cx="5540400" cy="15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4528-27A2-466D-A2E9-78C712601B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lling Line Width and Sty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width and style is controlled with a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BasicStro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have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BasicStroke(float wid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BasicStroke(float width, int cap, int join, float miterlimi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float[] dash, float dash_phas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ontrol line width, line cap style, line join style, and dashing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968-D337-4CAE-A6D5-966F1AB20F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Setting Color and Strok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71600" y="1523880"/>
          <a:ext cx="4724280" cy="459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4724280" cy="45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600" y="2514600"/>
            <a:ext cx="13716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886200"/>
            <a:ext cx="13716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str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419720"/>
            <a:ext cx="13716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867280" y="2286000"/>
            <a:ext cx="3057480" cy="3056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 flipV="1">
            <a:off x="1599840" y="2742840"/>
            <a:ext cx="304920" cy="6094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599840" y="4495680"/>
            <a:ext cx="304920" cy="763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599840" y="3504960"/>
            <a:ext cx="304920" cy="759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048120"/>
            <a:ext cx="13716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str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599840" y="4038480"/>
            <a:ext cx="304920" cy="763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0C7F-354E-460D-801D-B840BD1AB0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ctangle2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classes for creating rectangle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2D.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2D.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The only difference between them is the units of the calling parame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Rectangle2D.Double( double x, double y, double w, double h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Rectangle2D.Float( float x, float y, float w, float h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lasses create a rectangle with origi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ith wid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eigh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5A7-A339-4510-8ABF-6F00A92CCD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Creating a Rectang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15000" y="2209680"/>
            <a:ext cx="2828880" cy="282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04920" y="2514600"/>
          <a:ext cx="6858000" cy="2095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14600"/>
                    <a:ext cx="68580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A45-896A-4A4C-A5EA-A7A371F173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llipse2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classes for creating circles and ellipse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lipse2D.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lipse2D. 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The only difference between them is the units of the calling parame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Ellipse2D.Double( double x, double y, double w, double 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Ellipse2D.Float( float x, float y, float w, float 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lasses create the ellipse that fits in a rectangular box with origi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ith wid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eigh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326-A0C6-4D9A-BB48-A82ADF4B63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Creating an Ellip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3048120"/>
          <a:ext cx="8915400" cy="97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8120"/>
                    <a:ext cx="891540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638680" y="2057400"/>
            <a:ext cx="3057480" cy="305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7F3-8D36-4EC0-A55E-CFA3F93C58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c2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classes for creating arc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c2D.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c2D.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Arc2D.Double( double x, double y, double w, double 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double start, double extent, int typ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Arc2D.Float( float x, float y, float w, float h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float start, float extent, int typ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lasses create an arc that fits in a rectangular box with orig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with wid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heigh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arc starts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dians and extend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dia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ype of arc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c2D.O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c2D.CH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c2D.P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58F-3E82-45EF-9080-B4FE21DD29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Creating Ar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676520"/>
          <a:ext cx="5867280" cy="455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58672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334120" y="2209680"/>
            <a:ext cx="3057480" cy="3056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H="1" flipV="1">
            <a:off x="3962520" y="2209320"/>
            <a:ext cx="1828800" cy="685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038120" y="3504960"/>
            <a:ext cx="1295640" cy="6094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114440" y="2971800"/>
            <a:ext cx="3048120" cy="1447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114800" y="4648320"/>
            <a:ext cx="2819520" cy="9903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6A6-283C-4B70-B83F-9BAB7A2D4E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 Graphics Sys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ava SDK contains to different graphics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Abstract Windowing Toolkit (AWT), which was the original Java graphic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wing package, which is a newer, more flexible graphic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he Swing graphics system is taught in this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FCD-E57F-453F-9193-E1364225D3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ing Tex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is displayed us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drawString(String s, int x, int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drawString(String s, float x, float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methods wri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the component.  The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pecifie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-left hand cor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text box within the compon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Note that this differs from the convention for other 2D graphics objects, where (x,y) is the upper-left hand corn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5190-86DC-461E-963D-A9118C19FA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Writing Text Str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76320" y="2133720"/>
          <a:ext cx="9220320" cy="76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2133720"/>
                    <a:ext cx="922032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66680" y="3352680"/>
            <a:ext cx="3962520" cy="1328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90720" y="5257800"/>
            <a:ext cx="13716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orner is (20,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4191120"/>
            <a:ext cx="380880" cy="10666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D1E-8510-47D4-A3B9-1365635777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ting Fo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nts are created with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awt.Fo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( String s, int style, int size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name for the font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y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tyle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nt.PL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nt.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nt.ITA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a comb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font size in 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font on the system may be used, but certain fonts are guaranteed to be present on any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3D6F-2263-4F3A-9DB0-AC11BA3C21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ard Font Na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standard fonts are present on any Java implemen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52480" y="3200400"/>
          <a:ext cx="5643720" cy="247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00400"/>
                    <a:ext cx="5643720" cy="24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504-90A9-49B4-AB72-F92BDB8370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Defining Fo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-152280" y="2438280"/>
          <a:ext cx="5867280" cy="260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2438280"/>
                    <a:ext cx="586728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181480" y="2590920"/>
            <a:ext cx="3657600" cy="244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3320-BF83-4805-A89F-6CD443D68E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tting Information About Fo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awt.FontMetr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to get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ut a f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ntMetrics fm = new FontMetrics( Font f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FontMetrics fm = g2.getFontMetric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4267080"/>
          <a:ext cx="6786360" cy="13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267080"/>
                    <a:ext cx="678636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2EA-7CB6-448B-AA96-47A36B8BCC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 Getting Font Infor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3520" y="2057400"/>
          <a:ext cx="5487840" cy="228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54878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914400" y="5105520"/>
          <a:ext cx="6705720" cy="1117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105520"/>
                    <a:ext cx="670572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09840" y="457200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0560" y="152388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08A-5168-498E-A7E3-96416DA946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wo principal types of graphics objects a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in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visual object containing text or grap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 we will work with a completely blank component, known as a “Canva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tainer is a graphical object that can hold components or other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ncipal container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 It is a part of the computer screen surrounded by borders and title b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370-CE43-4DDD-83C7-B29BB69647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ing Java Graph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isplay Java graph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he component or components to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frame to hold the component(s), and place the component(s) into the frame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“listener” object to detect and respond to mouse clicks, and assign the listener to the fr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onents in this chapter will be of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Canv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containers will be of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C5F-2E5E-48B6-B466-EF1667A0DA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flipH="1">
            <a:off x="1828800" y="3657600"/>
            <a:ext cx="1752480" cy="763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playing Java Graphic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743200" y="1752480"/>
          <a:ext cx="5487840" cy="38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752480"/>
                    <a:ext cx="54878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533520" y="1523880"/>
            <a:ext cx="13716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1905120" y="1904760"/>
            <a:ext cx="1295280" cy="2286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429000"/>
            <a:ext cx="13716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905120" y="2895120"/>
            <a:ext cx="1752480" cy="304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514600"/>
            <a:ext cx="13716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“Listen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828800" y="4419720"/>
            <a:ext cx="1752480" cy="2286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343400"/>
            <a:ext cx="13716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980720" y="4724280"/>
            <a:ext cx="1676520" cy="11430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5334120"/>
            <a:ext cx="1523880" cy="131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listener and com-ponent to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443-A8DD-45AA-98A1-1D2E3EA192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e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“Listener” class listens for mouse clicks or keyboard input on a container or component, and responds when it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hapter, we will use a “Window” listener to detect mouse clicks and to shut down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09680" y="4114800"/>
          <a:ext cx="6446880" cy="171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114800"/>
                    <a:ext cx="644688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28600" y="4267080"/>
            <a:ext cx="1981080" cy="1618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p mouse clicks in the “Close Window” box, and exit when one occ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09320" y="4952880"/>
            <a:ext cx="762120" cy="763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51D-40F5-4272-AA72-C34342A2A2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playing Graphics on a Compon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is used to draw graphics on a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lling sequence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intComponent( Graphics g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must be immediately cast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awt.Graphics2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before it can be used with Swing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this is done, all of the classes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awt.ge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o draw graphics on the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581-F30D-4DCD-A034-2A490FFC83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Drawing a 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52280" y="2133720"/>
          <a:ext cx="6397920" cy="33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33720"/>
                    <a:ext cx="639792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715000" y="2057400"/>
            <a:ext cx="3057480" cy="3056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9880" y="5410080"/>
            <a:ext cx="18288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2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5562720"/>
            <a:ext cx="13716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 line represented by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4648320"/>
            <a:ext cx="1600200" cy="7617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4876920"/>
            <a:ext cx="76320" cy="685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7E1-684B-4F60-857E-B6F32627F0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Graphics Coordinate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uses a graphics coor-dinate system with the origin (0,0)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per left-hand cor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xis is positive to th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xis is positive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efault, the units of measure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72 pixels / i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of measure can be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Fig11-5_color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864240" cy="2793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562720" y="5486400"/>
            <a:ext cx="9903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4495680"/>
            <a:ext cx="914400" cy="9907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5486400"/>
            <a:ext cx="9903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2743200"/>
            <a:ext cx="228600" cy="27432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1600200"/>
            <a:ext cx="9903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257800" y="1828440"/>
            <a:ext cx="762120" cy="685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384-3E5C-49A8-AB08-51854EE539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01:27:35Z</dcterms:created>
  <dc:creator>Stephen J. Chapman</dc:creator>
  <dc:description/>
  <dc:language>en-US</dc:language>
  <cp:lastModifiedBy>Stephen J. Chapman</cp:lastModifiedBy>
  <cp:lastPrinted>2000-03-29T04:40:24Z</cp:lastPrinted>
  <dcterms:modified xsi:type="dcterms:W3CDTF">2000-05-05T21:49:05Z</dcterms:modified>
  <cp:revision>255</cp:revision>
  <dc:subject/>
  <dc:title>Master</dc:title>
</cp:coreProperties>
</file>