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027-C2E7-43FB-BCAA-426485CA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3F6-F768-4580-886D-3923B3D8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87B8-2031-4A5B-A7C3-0CB2BDE0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3EF-F96F-456C-B53D-8B3B9998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7B7-F93F-4E3A-82DC-26636AC7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0987-6B89-4EB6-B180-FCB32138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33C-8B39-4DD8-818E-5E6FE081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F0C-9E87-4B5F-BA70-AFDF0AD9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B35-BAEF-4631-8BDB-F50B71B0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369-177E-47EC-BB65-E64972B6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B70-13B1-44D1-B03B-75D165D7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ABE-CD8C-4758-91A9-5D306D4B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2 - Basic Elements of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41B4-F455-4A74-856A-ADE0A5834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5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troduction t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09480"/>
            <a:ext cx="8382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Elements of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A6B-A485-472A-90D8-F0461DB5C8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ignment Stat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ssignment statement in Java has the for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variableName = expre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ression is evaluated, and the result of the expression is stored in the specified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statements and arithmetic operations can be combined in a single symbol.  For exampl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variableName += expression;</a:t>
            </a: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variableName = variableName + expression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4C2-9418-4436-B8C5-E64C87E63D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ignment Conve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value of one type is assigned to a variable of another type,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 conver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ew data type can represent a wider range of numbers than the old data type, this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dening conver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dening conversions are leg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ew data type can represent a lesser range of numbers than the old data type, this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rrow-ing conver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rrowing conversions are illegal, and produce compilation erro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8BA-7E11-4A3E-9AF0-37C3C43D97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ignment Conversion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 = -17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 = i;           // Widening convers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d = -17.0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 = d;           // Narrowing conver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example is legal, while the second one will produce a compile-time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2DA-5585-4463-A352-31F5D2B199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ting Conver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rrowing conversions are legal if a programm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ici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pecifies them.  This is done using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t 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is the name of the new data type in parentheses.  Cast operations assign the nearest equivalent value in the new data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yte b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d = 100000.0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 = (byte) d;     //Legal: result = 127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8AA-E5F5-4244-8C91-E65378F789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crement and Decrement Operat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rement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decrement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perators increase or decrease an integer value by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incr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ecr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s appe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variable.  They increment or decrement the value of the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fore it is used in the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 = 4, j = 2, k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 = ++i - j;         // i = 5, j = 2, k =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FFC-87E3-4AA8-B9F9-B7604805E2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crement and Decrement Operators (2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incr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decr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s appe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variable.  They increment or decrement the value of the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ter it is used in the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 = 4, j = 2, k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 = i++ - j;         // i = 5, j = 2, k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expressions involving increment and decrement operators simpl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C31-7F3C-4C35-9BEC-2985F4B0AE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hematical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’s standard mathematical methods are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  They are invoked by naming the class name followed by the method name, separated by a period.  For example, the sine of a value can be calculated a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 = Math.sin(x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 of standard mathematical methods is found in Table 2-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908-BEF7-4776-991A-958227F76C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ard Input and Outp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Java program has three standard data stream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 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 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 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Each is represented by an object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s the standard input stream (the keyboard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s the standard output stream (the screen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e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s the standard error stream (a special channel to report severe errors on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B57-0F41-4A59-8855-BC1B939E42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ard Input and Outpu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objects process input or output dat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byte at a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It is the responsibility of the programmer to combine successive bytes into a useful form, such as a number or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cess is very complex for the standard input stream, and it will not be addressed until Chapter 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ow, we will use the convenienc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pman.io.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d data from the key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C103-C788-4B3C-A438-E9BCD5C66E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Class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td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, import packag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pman.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cre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dIn in = new StdIn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, read values from the standard input stream using metho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adIn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adDouble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adBoolean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adString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939-52C3-4A30-A8D1-2682B983FB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Na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names may contain any number of letters, numbers and underscore (“_”) characters, but the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gin with a 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Java Naming Conven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beginning with lowercase letters are variables or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beginning with uppercase letters are class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ive words within a name are 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in all capital letters are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ABB-E0E4-410E-9F8C-7E95EF9D63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ard Outp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to the standard output stream is accomplished with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 between these methods is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nts the data and advances the cursor to a new one, wh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nts the data and leaves the cursor on the same lin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DAD-F890-4975-85FB-58D58F4B04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Input and Outp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905120" y="1752480"/>
          <a:ext cx="5487840" cy="42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752480"/>
                    <a:ext cx="54878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477840" y="304812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4480" y="4267080"/>
            <a:ext cx="144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val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752480" y="4038480"/>
            <a:ext cx="121932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7242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800600"/>
            <a:ext cx="1219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876560" y="3276720"/>
            <a:ext cx="16002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6720" y="17524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981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8680" y="4191120"/>
            <a:ext cx="235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values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stream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ln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943240" y="4190760"/>
            <a:ext cx="685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943240" y="4800600"/>
            <a:ext cx="7621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6248520" y="38862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248520" y="4572000"/>
            <a:ext cx="4572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172200" y="502920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95880" y="5334120"/>
            <a:ext cx="6098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B2E-1AEA-4390-9BD9-19ACED844E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s of Java Nam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other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WO_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egal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toU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2590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or method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200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3809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4800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egal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057400" y="28195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523880" y="2895480"/>
            <a:ext cx="22860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742840" y="3352680"/>
            <a:ext cx="11430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1981080" y="3809520"/>
            <a:ext cx="19051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285640" y="487656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752120" y="5029200"/>
            <a:ext cx="20574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2C24-AB53-4E14-BE97-C131F6FF4C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Primitive Data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data types - values with a decimal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bit - true or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bits - Unicod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CF5-DED4-41AD-ACDE-49B74790C5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are special objects containing one or more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constants are surrounded by double quote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This is a String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ouble quote within a string is represent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scape sequ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She said, \"Hello!\"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DBA-3715-412A-AF54-5E254623B8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ing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lus sign (+) between two strin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caten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m toget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This " + "is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This i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lus sign (+) between a string and a numeric val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verts the numeric value to a 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oncatenates the two strings together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j = 17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Value = " + 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roduces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Value = 17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EEB-EF27-4FE6-9C36-53399E13DB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ithmetic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arithmetic operations in Java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 (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ion (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 (/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us or Remainder (%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se operations apply to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umer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AAF-8DEE-4376-A9B1-602CBBA7F6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er Arithmeti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operations between integers produce integer results by truncating the answer —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actional parts are disca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/ 4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/ 4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/ 4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arithmetic is unsuitable for calculations involving real-world continuous qua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94A-BBFE-42EF-B38E-B7EEC95C83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 (Floating-Point) Arithmeti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-point arithmetic is used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.  It produces the expected resul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/ 3 = 1.3333333333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se numbers have range and precision limi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±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7 decimal dig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±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0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-16 decimal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7ED-DE55-43A4-8741-83388163F2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01:27:35Z</dcterms:created>
  <dc:creator>Stephen J. Chapman</dc:creator>
  <dc:description/>
  <dc:language>en-US</dc:language>
  <cp:lastModifiedBy>Stephen J. Chapman</cp:lastModifiedBy>
  <cp:lastPrinted>1999-09-20T05:03:08Z</cp:lastPrinted>
  <dcterms:modified xsi:type="dcterms:W3CDTF">1999-09-20T05:03:17Z</dcterms:modified>
  <cp:revision>58</cp:revision>
  <dc:subject/>
  <dc:title>Master</dc:title>
</cp:coreProperties>
</file>