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10D-88E2-4BD0-90EC-A27FBA18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CE3-4195-4B30-A0D4-275312BF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E25-6A03-4834-A806-EA9067EE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354-6871-46B5-9A77-C3D70465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5C8-3F0E-4C55-A84C-F32A0FBE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F8BB-E091-4FE8-B19F-C3676FA4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E06-DAE2-4B84-A3DD-D081B2F6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F91-380F-4753-8977-D50EE39F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994-7609-4C2C-A3CC-9884B10E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5C3-A56F-4E70-A089-34283AED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236-A4DA-4735-A258-B813B8A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8D7-6EB5-40AF-AA9D-AFDE280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6 - 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D15E-DB65-43FC-A02A-DEA771B86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roduction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09480"/>
            <a:ext cx="8382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49F-7FFA-4449-8458-92E06BD26F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variable is the portion of the program from which it can be add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possible scopes for Java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Sc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ccessible anywhere within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ck Sco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- only accessible with the code block  (such as a method body) in which they are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variables have block scope—they can only be addressed from within the method in which they are defi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65E-3238-41B3-A24E-DD183F192D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llows multiple methods to be defined with the same name within a given clas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long as they have different calling 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ethod is called, the Java compiler automatically compares the calling parameters with all method definitions, and selects the one with the matching set of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A49-6988-4B26-9779-8AEC64565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 Overloading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2120" y="1752480"/>
          <a:ext cx="54878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5487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410080" y="3962520"/>
            <a:ext cx="20574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ing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5105520"/>
            <a:ext cx="20574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ing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657600" y="4495680"/>
            <a:ext cx="175248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486400"/>
            <a:ext cx="1600200" cy="152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057400"/>
            <a:ext cx="175284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971800"/>
            <a:ext cx="175284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43600" y="2438280"/>
            <a:ext cx="609480" cy="76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715000" y="3352320"/>
            <a:ext cx="838080" cy="304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ED5-9B2B-4E0A-B5C0-E456BFD16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eparate piece of code that can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nother method to perform a specific func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thod must be defined within the body of a cla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is called by naming both the method and the object that it is defined within in an expression, together with a lis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arenthe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CD3-0E16-42B9-B638-D2565A624E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43000" y="1905120"/>
          <a:ext cx="548784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54878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495680" y="5181480"/>
            <a:ext cx="19051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 of metho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3733920"/>
            <a:ext cx="1905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o metho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qu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metho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4800600"/>
            <a:ext cx="114300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962520"/>
            <a:ext cx="990360" cy="3045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209680"/>
            <a:ext cx="20574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ethods defined within cl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quare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209680"/>
            <a:ext cx="2819520" cy="6098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C00-25DB-48D1-8D91-FECDC127CE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Use Method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testing of sub-t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abl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nd test a method once, and re-use it whenever you need to solve a similar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 from unintended side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variables from the caller that can be seen from a method are those in the argument l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BD6-5B63-405E-9D72-E9747DC34E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hod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33720" y="3048120"/>
          <a:ext cx="5476680" cy="120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547668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657600" y="175248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800600"/>
            <a:ext cx="12193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4648320"/>
            <a:ext cx="12189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123720" y="3962520"/>
            <a:ext cx="381240" cy="8380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886200"/>
            <a:ext cx="1981440" cy="1143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447920" y="2361960"/>
            <a:ext cx="83808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895120" y="2438280"/>
            <a:ext cx="381240" cy="6098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14800" y="2438280"/>
            <a:ext cx="228600" cy="6098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81080"/>
            <a:ext cx="14475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752480"/>
            <a:ext cx="9903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638680" y="2209320"/>
            <a:ext cx="381240" cy="838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6400800" y="2209320"/>
            <a:ext cx="457200" cy="838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1828800"/>
            <a:ext cx="13716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67E-6447-4024-978F-693EAB063F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ass-by-Value Sche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are passed to Java methods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that each argument is copied, and the copy is passed to the metho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argument is modified within the method, it modifies the copy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value in the calling method is unaffec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behavior protects the Java program against unintended side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7B8F-8F5C-4E6C-93D2-70C8E8F5AB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ng Objects To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an object (such as an array) to a method, Jav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kes a copy of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the 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passes that copy to th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can use the reference to modify the object being referred 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an object passed to a method can be changed, and unintended side effects can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20C-870C-4549-9637-D8CFB5084C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ation and Sco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ariable in Java is characterized b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variable is the time during which it exis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variable is the portion of the program from which the variable can be addr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DAE-AAD4-44E4-8999-054D4F28F0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defined within a method body are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c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variables are automatically created when the method body is executed, and destroyed when execution en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variables are created each time that the method executes—no information is preserved between execu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variables are said to 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A83-DD84-4E83-A60D-F972FAD325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1:27:35Z</dcterms:created>
  <dc:creator>Stephen J. Chapman</dc:creator>
  <dc:description/>
  <dc:language>en-US</dc:language>
  <cp:lastModifiedBy>Stephen J. Chapman</cp:lastModifiedBy>
  <cp:lastPrinted>1999-11-28T18:37:41Z</cp:lastPrinted>
  <dcterms:modified xsi:type="dcterms:W3CDTF">1999-11-28T18:39:47Z</dcterms:modified>
  <cp:revision>196</cp:revision>
  <dc:subject/>
  <dc:title>Master</dc:title>
</cp:coreProperties>
</file>