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B96-8B3A-4FB1-B361-F599E4AA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720-7091-483A-9FC8-2AE3CE00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BAC-D9D5-48FB-B148-60279411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E44-40F0-4F8C-AC9A-DAED7F9F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E2B-C74D-4416-AAF4-861911A1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9AC-6E56-4DBE-9B43-0CEB9373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BFA-6077-4B0F-BA18-4B5AEB9B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0EF-F213-4271-AE8F-9041E517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420-3671-4FAA-B0E7-7ACBE021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0B9-056C-41BB-BCCA-1667E4F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498-B9D6-40B3-B22B-7E4D0EFD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F6C-EB6D-4152-BDE0-9A833BE4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5 - Arrays, Strings, File Access, and Plot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E010-5606-4A93-B0A3-BC8E6C945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roduction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09480"/>
            <a:ext cx="8382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, File Access, and Plo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EF3-3DE3-4564-9395-6E3CCA25A0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Files with Class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File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chapman.io.Fil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signed to read numeric data from an inpu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pen a file for reading, import package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chapman.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create a new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Fil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with the name of the file as a calling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FileIn in = new FileIn("inputFile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read input data using the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readDouble(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readFloat(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readInt(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,  or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readLo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B3B-8CAE-45A2-8F4E-CEE3198562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Class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File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38280" y="1600200"/>
          <a:ext cx="54882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5488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"/>
          <p:cNvGrpSpPr/>
          <p:nvPr/>
        </p:nvGrpSpPr>
        <p:grpSpPr>
          <a:xfrm>
            <a:off x="457200" y="1981080"/>
            <a:ext cx="1600200" cy="762120"/>
            <a:chOff x="457200" y="1981080"/>
            <a:chExt cx="1600200" cy="762120"/>
          </a:xfrm>
        </p:grpSpPr>
        <p:sp>
          <p:nvSpPr>
            <p:cNvPr id="72" name=""/>
            <p:cNvSpPr/>
            <p:nvPr/>
          </p:nvSpPr>
          <p:spPr>
            <a:xfrm>
              <a:off x="457200" y="1981080"/>
              <a:ext cx="1600200" cy="762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04156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file by creating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057400" y="2362320"/>
            <a:ext cx="91440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7200" y="2971800"/>
            <a:ext cx="1600200" cy="762120"/>
            <a:chOff x="457200" y="2971800"/>
            <a:chExt cx="1600200" cy="762120"/>
          </a:xfrm>
        </p:grpSpPr>
        <p:sp>
          <p:nvSpPr>
            <p:cNvPr id="76" name=""/>
            <p:cNvSpPr/>
            <p:nvPr/>
          </p:nvSpPr>
          <p:spPr>
            <a:xfrm>
              <a:off x="457200" y="2971800"/>
              <a:ext cx="1600200" cy="762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30322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eck for valid file op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 flipV="1">
            <a:off x="2057400" y="3276360"/>
            <a:ext cx="914400" cy="75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990720"/>
            <a:ext cx="1600200" cy="761760"/>
            <a:chOff x="457200" y="990720"/>
            <a:chExt cx="1600200" cy="761760"/>
          </a:xfrm>
        </p:grpSpPr>
        <p:sp>
          <p:nvSpPr>
            <p:cNvPr id="80" name=""/>
            <p:cNvSpPr/>
            <p:nvPr/>
          </p:nvSpPr>
          <p:spPr>
            <a:xfrm>
              <a:off x="457200" y="99072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10508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port pack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057400" y="1371600"/>
            <a:ext cx="5335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4343400"/>
            <a:ext cx="1600200" cy="762120"/>
            <a:chOff x="457200" y="4343400"/>
            <a:chExt cx="1600200" cy="762120"/>
          </a:xfrm>
        </p:grpSpPr>
        <p:sp>
          <p:nvSpPr>
            <p:cNvPr id="84" name=""/>
            <p:cNvSpPr/>
            <p:nvPr/>
          </p:nvSpPr>
          <p:spPr>
            <a:xfrm>
              <a:off x="457200" y="4343400"/>
              <a:ext cx="1600200" cy="762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44038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 file when d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flipV="1">
            <a:off x="2057400" y="4647960"/>
            <a:ext cx="1143000" cy="152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515280" y="3962520"/>
            <a:ext cx="1600200" cy="761760"/>
            <a:chOff x="6515280" y="3962520"/>
            <a:chExt cx="1600200" cy="761760"/>
          </a:xfrm>
        </p:grpSpPr>
        <p:sp>
          <p:nvSpPr>
            <p:cNvPr id="88" name=""/>
            <p:cNvSpPr/>
            <p:nvPr/>
          </p:nvSpPr>
          <p:spPr>
            <a:xfrm>
              <a:off x="6515280" y="396252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5280" y="40226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d data one value at a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 flipH="1" flipV="1">
            <a:off x="5410080" y="3962520"/>
            <a:ext cx="106704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57200" y="5486400"/>
            <a:ext cx="1600200" cy="761760"/>
            <a:chOff x="457200" y="5486400"/>
            <a:chExt cx="1600200" cy="761760"/>
          </a:xfrm>
        </p:grpSpPr>
        <p:sp>
          <p:nvSpPr>
            <p:cNvPr id="92" name=""/>
            <p:cNvSpPr/>
            <p:nvPr/>
          </p:nvSpPr>
          <p:spPr>
            <a:xfrm>
              <a:off x="457200" y="548640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55465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port errors if they ex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flipV="1">
            <a:off x="2057400" y="5714640"/>
            <a:ext cx="1143000" cy="152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A27-D9F8-4618-A1AA-E7929AAAFA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Files with Class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File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chapman.io.File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signed to write formatted data from an outpu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pen a file for writing, import package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chapman.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create a new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File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with the name of the file as a calling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FileOut out = new FileOut("outFile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rite output data using the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printf()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, and close file u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ose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40B-73D0-4D3D-9339-EB4E1C5B27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362320" y="1905120"/>
          <a:ext cx="548784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54878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Class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File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" y="2209680"/>
            <a:ext cx="1600200" cy="762120"/>
            <a:chOff x="457200" y="2209680"/>
            <a:chExt cx="1600200" cy="762120"/>
          </a:xfrm>
        </p:grpSpPr>
        <p:sp>
          <p:nvSpPr>
            <p:cNvPr id="101" name=""/>
            <p:cNvSpPr/>
            <p:nvPr/>
          </p:nvSpPr>
          <p:spPr>
            <a:xfrm>
              <a:off x="457200" y="2209680"/>
              <a:ext cx="1600200" cy="762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227016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file by creating 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057400" y="2590920"/>
            <a:ext cx="91440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3352680"/>
            <a:ext cx="1600200" cy="762120"/>
            <a:chOff x="457200" y="3352680"/>
            <a:chExt cx="1600200" cy="762120"/>
          </a:xfrm>
        </p:grpSpPr>
        <p:sp>
          <p:nvSpPr>
            <p:cNvPr id="105" name=""/>
            <p:cNvSpPr/>
            <p:nvPr/>
          </p:nvSpPr>
          <p:spPr>
            <a:xfrm>
              <a:off x="457200" y="3352680"/>
              <a:ext cx="1600200" cy="762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341316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eck for valid file op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2057400" y="3504960"/>
            <a:ext cx="99072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219320"/>
            <a:ext cx="1600200" cy="761760"/>
            <a:chOff x="457200" y="1219320"/>
            <a:chExt cx="1600200" cy="761760"/>
          </a:xfrm>
        </p:grpSpPr>
        <p:sp>
          <p:nvSpPr>
            <p:cNvPr id="109" name=""/>
            <p:cNvSpPr/>
            <p:nvPr/>
          </p:nvSpPr>
          <p:spPr>
            <a:xfrm>
              <a:off x="457200" y="121932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12794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port pack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057400" y="1676520"/>
            <a:ext cx="45720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57200" y="4648320"/>
            <a:ext cx="1600200" cy="761760"/>
            <a:chOff x="457200" y="4648320"/>
            <a:chExt cx="1600200" cy="761760"/>
          </a:xfrm>
        </p:grpSpPr>
        <p:sp>
          <p:nvSpPr>
            <p:cNvPr id="113" name=""/>
            <p:cNvSpPr/>
            <p:nvPr/>
          </p:nvSpPr>
          <p:spPr>
            <a:xfrm>
              <a:off x="457200" y="464832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" y="47084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 file when d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2057400" y="4952880"/>
            <a:ext cx="838080" cy="76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781680" y="4419720"/>
            <a:ext cx="1600200" cy="761760"/>
            <a:chOff x="6781680" y="4419720"/>
            <a:chExt cx="1600200" cy="761760"/>
          </a:xfrm>
        </p:grpSpPr>
        <p:sp>
          <p:nvSpPr>
            <p:cNvPr id="117" name=""/>
            <p:cNvSpPr/>
            <p:nvPr/>
          </p:nvSpPr>
          <p:spPr>
            <a:xfrm>
              <a:off x="6781680" y="441972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44798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 data one value at a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 flipV="1">
            <a:off x="5790960" y="4419720"/>
            <a:ext cx="99036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05E-9496-46D2-B880-A05D731EB2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Plot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graphics is built into the Java A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is in the form of low-level graphics classes and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thods are discussed in 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while, we will use the convenience class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chapman.graphics.JPlot2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reate 2D pl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512-9418-4BC6-B6FC-572E8497FE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Plot2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Plot2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pports many types of plo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log x p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log y p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arithmic p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 P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 P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are shown on the following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A70-E96E-41B0-B7B7-C931115F19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Plot2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utput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estJPlot2DLinear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656160" cy="3655800"/>
          </a:xfrm>
          <a:prstGeom prst="rect">
            <a:avLst/>
          </a:prstGeom>
          <a:ln w="0">
            <a:noFill/>
          </a:ln>
        </p:spPr>
      </p:pic>
      <p:pic>
        <p:nvPicPr>
          <p:cNvPr id="126" name="TestJPlot2DSemilogx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656160" cy="3655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9360" y="548640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7120" y="5562720"/>
            <a:ext cx="22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Semi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5D4-51DB-4D80-BB48-8486D07FB6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Plot2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utput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680" y="5562720"/>
            <a:ext cx="19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Log-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TestJPlot2DSemilogy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656160" cy="365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72320" y="5562720"/>
            <a:ext cx="22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Semi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estJPlot2DLoglog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656160" cy="36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7E0-EECF-4055-A213-3599BFEA70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Plot2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utputs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21360" y="556272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B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7240" y="556272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o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stJPlot2DPolar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656160" cy="3655800"/>
          </a:xfrm>
          <a:prstGeom prst="rect">
            <a:avLst/>
          </a:prstGeom>
          <a:ln w="0">
            <a:noFill/>
          </a:ln>
        </p:spPr>
      </p:pic>
      <p:pic>
        <p:nvPicPr>
          <p:cNvPr id="138" name="TestJPlot2DBar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656160" cy="36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D89-6357-4A17-A5E4-218906BD55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Plo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plots, use the template shown on the following two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rray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ing the data to plot, and insert it into the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onents of this program will be explained in Chapters 11 and 12; meanwhile we can use it to plot any desi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able 5.5 for a list of plotting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F5D-5A51-4F22-A324-09005149AF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pecial object cont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roup of contiguous memory locations that all have the same name and sam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parate instance variable containing the number of elements in the arr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876920" y="2209680"/>
          <a:ext cx="355104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209680"/>
                    <a:ext cx="355104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7BB-FC89-4648-B1A8-55CEC14D78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362320" y="1676520"/>
          <a:ext cx="548784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76520"/>
                    <a:ext cx="54878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Class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JPlot2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2209680"/>
            <a:ext cx="1600200" cy="762120"/>
            <a:chOff x="457200" y="2209680"/>
            <a:chExt cx="1600200" cy="762120"/>
          </a:xfrm>
        </p:grpSpPr>
        <p:sp>
          <p:nvSpPr>
            <p:cNvPr id="145" name=""/>
            <p:cNvSpPr/>
            <p:nvPr/>
          </p:nvSpPr>
          <p:spPr>
            <a:xfrm>
              <a:off x="457200" y="2209680"/>
              <a:ext cx="1600200" cy="762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227016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eate data to plot 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57400" y="2590920"/>
            <a:ext cx="91440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7200" y="3352680"/>
            <a:ext cx="1600200" cy="762120"/>
            <a:chOff x="457200" y="3352680"/>
            <a:chExt cx="1600200" cy="762120"/>
          </a:xfrm>
        </p:grpSpPr>
        <p:sp>
          <p:nvSpPr>
            <p:cNvPr id="149" name=""/>
            <p:cNvSpPr/>
            <p:nvPr/>
          </p:nvSpPr>
          <p:spPr>
            <a:xfrm>
              <a:off x="457200" y="3352680"/>
              <a:ext cx="1600200" cy="762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41316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e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Plot2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ob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V="1">
            <a:off x="2057400" y="3581280"/>
            <a:ext cx="914400" cy="15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200" y="1219320"/>
            <a:ext cx="1600200" cy="761760"/>
            <a:chOff x="457200" y="1219320"/>
            <a:chExt cx="1600200" cy="761760"/>
          </a:xfrm>
        </p:grpSpPr>
        <p:sp>
          <p:nvSpPr>
            <p:cNvPr id="153" name=""/>
            <p:cNvSpPr/>
            <p:nvPr/>
          </p:nvSpPr>
          <p:spPr>
            <a:xfrm>
              <a:off x="457200" y="121932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12794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mport packa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57400" y="1676520"/>
            <a:ext cx="457200" cy="228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4648320"/>
            <a:ext cx="1600200" cy="761760"/>
            <a:chOff x="457200" y="4648320"/>
            <a:chExt cx="1600200" cy="761760"/>
          </a:xfrm>
        </p:grpSpPr>
        <p:sp>
          <p:nvSpPr>
            <p:cNvPr id="157" name=""/>
            <p:cNvSpPr/>
            <p:nvPr/>
          </p:nvSpPr>
          <p:spPr>
            <a:xfrm>
              <a:off x="457200" y="464832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47084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 the desired plotting sty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V="1">
            <a:off x="2057400" y="4495680"/>
            <a:ext cx="83808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781680" y="3505320"/>
            <a:ext cx="1600200" cy="761760"/>
            <a:chOff x="6781680" y="3505320"/>
            <a:chExt cx="1600200" cy="761760"/>
          </a:xfrm>
        </p:grpSpPr>
        <p:sp>
          <p:nvSpPr>
            <p:cNvPr id="161" name=""/>
            <p:cNvSpPr/>
            <p:nvPr/>
          </p:nvSpPr>
          <p:spPr>
            <a:xfrm>
              <a:off x="6781680" y="350532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81680" y="35654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 data to pl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 flipV="1">
            <a:off x="5562720" y="3580920"/>
            <a:ext cx="121896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85D-D8D7-424B-85A0-4CBF822F8B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0" y="1828800"/>
          <a:ext cx="548784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28800"/>
                    <a:ext cx="5487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Class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JPlot2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7200" y="2209680"/>
            <a:ext cx="1600200" cy="762120"/>
            <a:chOff x="457200" y="2209680"/>
            <a:chExt cx="1600200" cy="762120"/>
          </a:xfrm>
        </p:grpSpPr>
        <p:sp>
          <p:nvSpPr>
            <p:cNvPr id="168" name=""/>
            <p:cNvSpPr/>
            <p:nvPr/>
          </p:nvSpPr>
          <p:spPr>
            <a:xfrm>
              <a:off x="457200" y="2209680"/>
              <a:ext cx="1600200" cy="762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27016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eate listener (see Chap 1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57400" y="2590920"/>
            <a:ext cx="838080" cy="75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3352680"/>
            <a:ext cx="1600200" cy="762120"/>
            <a:chOff x="457200" y="3352680"/>
            <a:chExt cx="1600200" cy="762120"/>
          </a:xfrm>
        </p:grpSpPr>
        <p:sp>
          <p:nvSpPr>
            <p:cNvPr id="172" name=""/>
            <p:cNvSpPr/>
            <p:nvPr/>
          </p:nvSpPr>
          <p:spPr>
            <a:xfrm>
              <a:off x="457200" y="3352680"/>
              <a:ext cx="1600200" cy="7621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4131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t size of pl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2057400" y="3352320"/>
            <a:ext cx="83808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1219320"/>
            <a:ext cx="1600200" cy="761760"/>
            <a:chOff x="457200" y="1219320"/>
            <a:chExt cx="1600200" cy="761760"/>
          </a:xfrm>
        </p:grpSpPr>
        <p:sp>
          <p:nvSpPr>
            <p:cNvPr id="176" name=""/>
            <p:cNvSpPr/>
            <p:nvPr/>
          </p:nvSpPr>
          <p:spPr>
            <a:xfrm>
              <a:off x="457200" y="121932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" y="12794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reate frame to hold pl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057400" y="1676520"/>
            <a:ext cx="83808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57200" y="4648320"/>
            <a:ext cx="1600200" cy="1066680"/>
            <a:chOff x="457200" y="4648320"/>
            <a:chExt cx="1600200" cy="1066680"/>
          </a:xfrm>
        </p:grpSpPr>
        <p:sp>
          <p:nvSpPr>
            <p:cNvPr id="180" name=""/>
            <p:cNvSpPr/>
            <p:nvPr/>
          </p:nvSpPr>
          <p:spPr>
            <a:xfrm>
              <a:off x="457200" y="4648320"/>
              <a:ext cx="1600200" cy="1066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" y="470844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ow listener (see Chap 1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2057400" y="4723920"/>
            <a:ext cx="53352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010280" y="3352680"/>
            <a:ext cx="1600200" cy="761760"/>
            <a:chOff x="7010280" y="3352680"/>
            <a:chExt cx="1600200" cy="761760"/>
          </a:xfrm>
        </p:grpSpPr>
        <p:sp>
          <p:nvSpPr>
            <p:cNvPr id="184" name=""/>
            <p:cNvSpPr/>
            <p:nvPr/>
          </p:nvSpPr>
          <p:spPr>
            <a:xfrm>
              <a:off x="7010280" y="3352680"/>
              <a:ext cx="1600200" cy="761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34128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 plot to f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 flipV="1">
            <a:off x="5028840" y="3200400"/>
            <a:ext cx="198108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4D0-CE69-471B-BF48-AE1075894F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bject containing one or more characters, treated as a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are type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Once a string is create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s contents never 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plest form of string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ng 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a series of characters between quotation mark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This is a string literal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B20-ADCE-43C7-98DD-D3D3DF8B99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re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declar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crea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 string literal or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1, s2;      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/ Create refer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 = "This is a test.";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/ Create array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2 = new String();  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/ Create array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teps can be combined on a single 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3[] = "String 3."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/ All togeth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2DC-E0D8-4542-8A76-8D8BA75E5B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ortion of a st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ing a portion of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ms of this method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s.substring(int st);          </a:t>
            </a:r>
            <a:r>
              <a:rPr b="0" sz="2000" spc="-1" strike="noStrike">
                <a:solidFill>
                  <a:srgbClr val="3333cc"/>
                </a:solidFill>
                <a:latin typeface="Courier New"/>
              </a:rPr>
              <a:t>// From "st"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s.substring(int st, int en);  </a:t>
            </a:r>
            <a:r>
              <a:rPr b="0" sz="2000" spc="-1" strike="noStrike">
                <a:solidFill>
                  <a:srgbClr val="3333cc"/>
                </a:solidFill>
                <a:latin typeface="Courier New"/>
              </a:rPr>
              <a:t>// "st" to "e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ing the characters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the end of the string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DBA-8986-4875-8B52-96A0135B5F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ring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 = "abcdefgh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1 = s.substring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s2 = s.substring(3,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r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defgh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substr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def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es start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at the substring contains the values from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629400" y="2133720"/>
            <a:ext cx="1349280" cy="685800"/>
            <a:chOff x="6629400" y="2133720"/>
            <a:chExt cx="1349280" cy="685800"/>
          </a:xfrm>
        </p:grpSpPr>
        <p:sp>
          <p:nvSpPr>
            <p:cNvPr id="196" name=""/>
            <p:cNvSpPr/>
            <p:nvPr/>
          </p:nvSpPr>
          <p:spPr>
            <a:xfrm>
              <a:off x="6705720" y="2133720"/>
              <a:ext cx="1143000" cy="685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29400" y="2286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"abcdefgh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562720" y="3581280"/>
            <a:ext cx="1143000" cy="685800"/>
            <a:chOff x="5562720" y="3581280"/>
            <a:chExt cx="1143000" cy="685800"/>
          </a:xfrm>
        </p:grpSpPr>
        <p:sp>
          <p:nvSpPr>
            <p:cNvPr id="199" name=""/>
            <p:cNvSpPr/>
            <p:nvPr/>
          </p:nvSpPr>
          <p:spPr>
            <a:xfrm>
              <a:off x="5562720" y="3581280"/>
              <a:ext cx="1143000" cy="685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11680" y="37720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"defgh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467480" y="3962520"/>
            <a:ext cx="1143000" cy="685800"/>
            <a:chOff x="7467480" y="3962520"/>
            <a:chExt cx="1143000" cy="685800"/>
          </a:xfrm>
        </p:grpSpPr>
        <p:sp>
          <p:nvSpPr>
            <p:cNvPr id="202" name=""/>
            <p:cNvSpPr/>
            <p:nvPr/>
          </p:nvSpPr>
          <p:spPr>
            <a:xfrm>
              <a:off x="7467480" y="3962520"/>
              <a:ext cx="1143000" cy="685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96080" y="4152960"/>
              <a:ext cx="73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"def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6400800" y="2819520"/>
            <a:ext cx="5335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7480" y="2819520"/>
            <a:ext cx="4572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0" y="3276720"/>
            <a:ext cx="190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.substring(3,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048120"/>
            <a:ext cx="1676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.substring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9960" y="2286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600" y="37339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5400" y="4191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33F-1AB5-4931-A452-2DF99686B7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atenating Str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reates a ne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ing the contents of two other str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m of this method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s1.concat(String s2);     </a:t>
            </a:r>
            <a:r>
              <a:rPr b="0" sz="2000" spc="-1" strike="noStrike">
                <a:solidFill>
                  <a:srgbClr val="3333cc"/>
                </a:solidFill>
                <a:latin typeface="Courier New"/>
              </a:rPr>
              <a:t>// Combine s1 and s2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ontaining the content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llowed by the content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674-35CF-4979-A8B7-4765216469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atenating String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5487840" cy="34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548784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486400" y="1905120"/>
          <a:ext cx="2901960" cy="37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05120"/>
                    <a:ext cx="29019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553080" y="5791320"/>
            <a:ext cx="13716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object cre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543440" y="5334120"/>
            <a:ext cx="228600" cy="457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B45-63F6-4730-AC18-4784E3B3D7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ed Additional String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92280" y="1976400"/>
          <a:ext cx="7748280" cy="452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976400"/>
                    <a:ext cx="774828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BB5-E2CA-4E89-995D-DB5D6540A3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laring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must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la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created before it can be used.  This is a two-step 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declar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create the array with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[];     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/ Create refer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new double[5];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/ Create array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teps can be combined on a single 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[] = new double[5];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/ All togeth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423-2E98-4597-B268-8A67E7756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y 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be used in any place where an ordinary variable of the same type may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ray element is addressed using the array name followed by a integ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racket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[2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re typically used to perfo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me calculation on many different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for ( int i = 0; i &lt; 100; i++ ) {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a[i] = Math.sqrt(a[i]);    </a:t>
            </a:r>
            <a:r>
              <a:rPr b="0" sz="1800" spc="-1" strike="noStrike">
                <a:solidFill>
                  <a:srgbClr val="3333cc"/>
                </a:solidFill>
                <a:latin typeface="Courier New"/>
              </a:rPr>
              <a:t>// sqrt of 100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824-A7F6-4356-B739-7BED2EB2D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izing Arr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array object is created with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, its elements are automatically initialized to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be initialized to non-zero values us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y initializ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which are comma-separated list enclosed in br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initializ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nly work in declaration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[] = {1, 2, 3, 4, 5}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/ Create &amp; initializ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469-FCAD-4A02-A4DC-19303BEF10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-of-Bounds Subscrip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of an array is addressed using the name of the array plus the subscripts 0, 1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umber of elements in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pts &lt; 0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llegal, since they do not correspond to real memory locations in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ubscripts are said to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-of-bou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n out-of-bounds subscript produce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-of-bounds ex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the program will crash if the exception is not hand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EEC-6275-4F7D-80CE-8F6CDDBC93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400800" y="4114800"/>
            <a:ext cx="22860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41148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failure when access to an out-of-bounds subscript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attemp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-of-Bounds Subscript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// Declare and initializ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nt a[] = {1,2,3,4,5}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// Write array (with an error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for ( int i = 0; i &lt;= 5; i++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System.out.println("a[" + i + "] = " + a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C:\book\java\chap5&gt;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java TestB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a[0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a[1]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a[2]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a[3]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a[4]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java.lang.ArrayIndexOutOfBoundsException: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at TestBounds.main(TestBounds.java:15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029200" y="4952520"/>
            <a:ext cx="129528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F53-44BE-466A-92D3-CECEE9874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nd Writing Data to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 files are a convenient way to store large amounts of data between 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plest way to read or write disk files is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and-line redir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le to read data from is listed after a &lt; on the command line.  All input data comes from this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le to write data from is listed after a &gt; on the command line.  All output data goes to this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:\&gt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java Example &lt; infile &gt; out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887-B9A9-4B9C-BDCD-AF0D68AC67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 and Writing Data to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line redirection is relatively inflexible,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put must be in a single file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put must go to a singl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better to use the Java I/O system to open and close files as needed when a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I/O system is very complex, and discussion is postponed to Chapter 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introduce 2 convenience classes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Fil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sz="2400" spc="-1" strike="noStrike">
                <a:solidFill>
                  <a:srgbClr val="000000"/>
                </a:solidFill>
                <a:latin typeface="Courier New"/>
              </a:rPr>
              <a:t>File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sy Java I/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BFC-20A5-4447-9D9B-22F4E99BA5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1:27:35Z</dcterms:created>
  <dc:creator>Stephen J. Chapman</dc:creator>
  <dc:description/>
  <dc:language>en-US</dc:language>
  <cp:lastModifiedBy>Stephen J. Chapman</cp:lastModifiedBy>
  <cp:lastPrinted>1999-11-28T01:25:21Z</cp:lastPrinted>
  <dcterms:modified xsi:type="dcterms:W3CDTF">1999-12-12T05:09:54Z</dcterms:modified>
  <cp:revision>203</cp:revision>
  <dc:subject/>
  <dc:title>Master</dc:title>
</cp:coreProperties>
</file>