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019925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A930-768D-418D-BF2A-73149D325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0A63-851F-4AA0-84BE-7F9796421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0DCC-F7C2-4D7C-990A-25F25E9E1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31EF-D931-4107-B590-96DEB8B1D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57F8-B320-433A-99C8-73B5E2C1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9103-0E71-4B49-B4FA-2E983601D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31F0-1FDB-44DE-A54A-57E23C35C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2A3A-D586-411D-A8EE-ACAE7A595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9D22-2A34-4F0D-86A8-269ECA99C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5E33-6221-4A26-82C4-D08B0B74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88A2-42E6-4220-8F50-5057FAF8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9B21-6C13-4FA2-BF80-76D3A583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71800" y="6248520"/>
            <a:ext cx="3276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4 - Repetition 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EF6D0-83F4-42DA-A2E4-EA717C22EF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15228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Introduction to 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09480"/>
            <a:ext cx="838224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etition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C29D-C762-47D2-907A-0BCFE5C19D1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matted Outpu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like languages such as C and Fortran, Java has no simple way to format numbers for disp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pman.io.Fm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kes up for this lack.  It contains two methods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ich prints formatted data to the standard output stream,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ich creates a formatted 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class is very useful for creating structured tables of data, or for specifying the number of decimal digits to print 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4AB3-1176-40F8-AD3C-AFB627AAAD4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matted Output (2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yntax of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mt.printf(format,val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m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value to be prin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ormat string must contain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descrip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arked by an initial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haracter), which serves as a “model” for how to print out the val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characters in the format string except for the format descriptor are printed unchanged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0358-A5EC-4969-BAAF-8F3183C7AD6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matted Output (3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tructure of a format descriptor i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mt.printf("Average price = $ %5.2f \n", av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verage price = $   3.7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057400" y="2362320"/>
          <a:ext cx="4800600" cy="142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362320"/>
                    <a:ext cx="4800600" cy="14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5A27-584B-4A8D-ABF6-03EA77DB3E1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Loo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o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tains a statement or block of statements that are repeated indefinitely as long as some boolean expression is true.  The test is perform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t the beginning of the lo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while ( </a:t>
            </a:r>
            <a:r>
              <a:rPr b="0" i="1" sz="1600" spc="-1" strike="noStrike">
                <a:solidFill>
                  <a:srgbClr val="000000"/>
                </a:solidFill>
                <a:latin typeface="Courier New"/>
              </a:rPr>
              <a:t>booleanExpr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 )      while ( </a:t>
            </a:r>
            <a:r>
              <a:rPr b="0" i="1" sz="1600" spc="-1" strike="noStrike">
                <a:solidFill>
                  <a:srgbClr val="000000"/>
                </a:solidFill>
                <a:latin typeface="Courier New"/>
              </a:rPr>
              <a:t>booleanExpr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 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statement;                  statement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                                 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statement 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                                 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Be careful 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to place a semicolon after the while state-ment–that would produce a 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null statement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as the body of the loo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9A28-22D0-4E77-84FE-63E42A0125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do/whil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Loo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o/whi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o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so contains a statement or block of statements that are repeated indefinitely as long as some boolean expression is true, but the test is perform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t the end of the lo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/whi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op is executed at least o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statement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statement 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} while ( </a:t>
            </a:r>
            <a:r>
              <a:rPr b="0" i="1" sz="1600" spc="-1" strike="noStrike">
                <a:solidFill>
                  <a:srgbClr val="000000"/>
                </a:solidFill>
                <a:latin typeface="Courier New"/>
              </a:rPr>
              <a:t>booleanExpr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4F9D-ED55-41D3-AF79-E6E3898D55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Loop (1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o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ecutes a block of statement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pecified number of tim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ructure of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op i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600200" y="3352680"/>
          <a:ext cx="6040440" cy="258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352680"/>
                    <a:ext cx="6040440" cy="25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D854-6805-4B40-A8C5-3997C9B41F2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Loop (2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op starts, the loop index is set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itExp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tineExp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evaluated.  If the continuation expression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loop is execut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 loop finishes executing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crementExp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executed to change the value of the loop index,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tineExp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evaluated again.  If the continuation expression is sti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loop is executed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cess continues unti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tineExp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Then execution skips to the first statement after the end of the loop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B183-00E2-4979-B50B-5A4CC83E8D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tinu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State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ntin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atement interrupts the execution of a loop,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turns control to the top of the lo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600200" y="3124080"/>
          <a:ext cx="6188040" cy="156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124080"/>
                    <a:ext cx="6188040" cy="15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2286000" y="4952880"/>
          <a:ext cx="1461960" cy="130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4952880"/>
                    <a:ext cx="1461960" cy="13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9E4A-2DBA-4A41-A457-B8A8724824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State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atement interrupts the execution of a loop,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ransfers control to the first statement after the lo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523880" y="3124080"/>
          <a:ext cx="6253200" cy="156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124080"/>
                    <a:ext cx="6253200" cy="15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2209680" y="5029200"/>
          <a:ext cx="1462320" cy="868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5029200"/>
                    <a:ext cx="146232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0F77-C4F1-4D12-BA72-4D000A77DE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ontinue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tatements in Nested Loop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nested loops, an ordinar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tin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atement applies to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nermost loop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523880" y="3124080"/>
          <a:ext cx="7072560" cy="18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124080"/>
                    <a:ext cx="7072560" cy="18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1523880" y="5226120"/>
          <a:ext cx="1096920" cy="1631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5226120"/>
                    <a:ext cx="1096920" cy="16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6EE9-651B-4CA3-99E4-9945FCD0C7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beled 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continu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tat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added to each loop in a nested structure, and the label can be used to specify which loop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tin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atement applies 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371600" y="3276720"/>
          <a:ext cx="7072200" cy="184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276720"/>
                    <a:ext cx="7072200" cy="18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1371600" y="5334120"/>
          <a:ext cx="1096920" cy="98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5334120"/>
                    <a:ext cx="109692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B5E0-1238-4086-8930-343842EF792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1T01:27:35Z</dcterms:created>
  <dc:creator>Stephen J. Chapman</dc:creator>
  <dc:description/>
  <dc:language>en-US</dc:language>
  <cp:lastModifiedBy>Stephen J. Chapman</cp:lastModifiedBy>
  <cp:lastPrinted>1999-09-20T05:02:07Z</cp:lastPrinted>
  <dcterms:modified xsi:type="dcterms:W3CDTF">1999-09-20T05:02:11Z</dcterms:modified>
  <cp:revision>121</cp:revision>
  <dc:subject/>
  <dc:title>Master</dc:title>
</cp:coreProperties>
</file>