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F73-EC10-4FC0-A8D5-4F28EB90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BEF-FF99-441E-8F55-FBAC8FDD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D06-AC5A-4205-B361-23AE1D4C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AA9-EA3C-40E3-BAEF-34D58491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DD1-18A8-45C2-8238-6CCEAFEB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B7A-A9A2-48E1-A544-AC17BE31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E9B-6476-49BE-AD0E-C370B88D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6375-5FC8-45AA-BF8F-30F30C80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A2D-537D-4825-850F-8B700338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1A6-848F-427F-87B3-4E5F3A5A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4A8-3A96-4031-9742-F882F748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6CC-EB1C-42FD-AF47-6C21B697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7 - Classes &amp; Object-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5D9D-0975-4DC3-B7FB-B81F8C56F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52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troduction t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09480"/>
            <a:ext cx="8382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and Object-Orien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BD9-43D5-484E-89C4-6C1062F9B0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group of classes and methods that share some related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tandard Java classes are grouped in packages, such as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se the contents of any package except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t must first be imported into a program with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 must be the first non-comment lines in a program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57F-73BC-47B8-B3C0-F186D683A9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ating Your Own Pack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reate packages for your own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add a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to each class specifying the package that it belongs to.  Place the statement before the class 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Courier New"/>
              </a:rPr>
              <a:t>package chapman.testpackage;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compile us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tion to specify the root directory of the packag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3333cc"/>
                </a:solidFill>
                <a:latin typeface="Courier New"/>
              </a:rPr>
              <a:t>javac -d d:\packages MyClass.java;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ommands will place file </a:t>
            </a:r>
            <a:r>
              <a:rPr b="1" sz="2000" spc="-1" strike="noStrike">
                <a:solidFill>
                  <a:srgbClr val="3333cc"/>
                </a:solidFill>
                <a:latin typeface="Courier New"/>
              </a:rPr>
              <a:t>MyClass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.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irectory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d:\packages\chapman\</a:t>
            </a:r>
            <a:r>
              <a:rPr b="1" sz="2000" spc="-1" strike="noStrike">
                <a:solidFill>
                  <a:srgbClr val="3333cc"/>
                </a:solidFill>
                <a:latin typeface="Courier New"/>
              </a:rPr>
              <a:t>testpack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855-B178-4B27-9D2A-9907A31DE7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Creating </a:t>
            </a:r>
            <a:r>
              <a:rPr b="1" sz="3200" spc="-1" strike="noStrike">
                <a:solidFill>
                  <a:srgbClr val="000000"/>
                </a:solidFill>
                <a:latin typeface="Courier New"/>
              </a:rPr>
              <a:t>My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3880" y="2057400"/>
          <a:ext cx="6239160" cy="25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23916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H="1" flipV="1">
            <a:off x="1371240" y="1752480"/>
            <a:ext cx="304920" cy="6098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371600"/>
            <a:ext cx="22860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952880"/>
            <a:ext cx="152388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atio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28440" y="4495680"/>
            <a:ext cx="762120" cy="685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5181480"/>
            <a:ext cx="4572000" cy="673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ass file will now be in directory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d:\packages\chapman\test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FC1-1B80-4A63-A055-E2C843D15B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Your Own Pack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se the classes in your packages, you must add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to each class wanting to access the pack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, you must ad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direc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package structure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P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vironment vari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lass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chapman.testpackage.My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 directory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d:\package\chapman\testpack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the root directory of the package structure is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d:\pack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it must appear 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P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93D5-AE80-4197-BCD5-DD2473C1B3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Using </a:t>
            </a:r>
            <a:r>
              <a:rPr b="1" sz="3200" spc="-1" strike="noStrike">
                <a:solidFill>
                  <a:srgbClr val="000000"/>
                </a:solidFill>
                <a:latin typeface="Courier New"/>
              </a:rPr>
              <a:t>My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52880" y="1904760"/>
            <a:ext cx="1219320" cy="2286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1523880"/>
            <a:ext cx="198108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class path in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352680"/>
            <a:ext cx="152388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752480" y="2971800"/>
            <a:ext cx="533520" cy="685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33720" y="1905120"/>
          <a:ext cx="5487840" cy="362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905120"/>
                    <a:ext cx="5487840" cy="36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707-CC59-4B2E-AF3F-E88F6F250D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mber Access Modifi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access modifiers control where a class member can be accessed from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Members can be accessed from any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Members can only be accessed from within the class that they are defin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one&gt;:  With no modifier, members can be accessed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y class in the same pack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the class that they are defined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Access from the same package or from any subclass of the class that they are defin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527-41BA-44F1-91F5-AECADA0541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al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nalizer is a special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al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performs any necessary clean-up (releasing resources, etc.) before an object is destroy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utomatically called just before an object is destroy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lasses do not need a finaliz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FB9-6F32-4C65-8655-F80ECA3D99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object is no longer needed, it is automatically destroyed by a low-priority thread called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bage coll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oying old objects returns their resources to the system for re-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object that no longer has a reference pointing to it is a candidate for garbage col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arbage collector calls a class’s finalizer before destroy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047-3140-435C-827A-9AF64BD2FD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ic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pecial type of variable tha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ll objects instantiated from a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variables are useful for keeping track of global information such as the number of objects instantiated from a clas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declared with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rivate static int created;  // Static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variables are also useful for declaring a single shared copy of a consta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atic final double C = 2.99792458e8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797-D421-4E53-A231-F45E68FE75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0" y="1600200"/>
          <a:ext cx="4200480" cy="42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00200"/>
                    <a:ext cx="4200480" cy="42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 flipH="1" flipV="1">
            <a:off x="1752480" y="2362320"/>
            <a:ext cx="1067040" cy="12189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066680"/>
            <a:ext cx="205740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finition with two instance variables and one static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2819520"/>
            <a:ext cx="198144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unique in each object, wh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ommon to b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514600"/>
            <a:ext cx="914400" cy="5335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943600" y="3962520"/>
            <a:ext cx="838080" cy="7617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334120"/>
            <a:ext cx="27432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bject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antiated from cl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3E5-48B0-4136-935C-4445AFB46D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basic unit of the Java language.  It is the “blueprint” for the objects created from that clas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lass contains some data definitions (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together with methods to manipulate that d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object is instantiated from the class, an instance variable is created for each field in the cla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s serve a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isolate the data in the class from the outside worl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0FB-4EF1-4455-A098-58B02A7D12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methods are methods that can be execu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thout first instantiating an obj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class containing the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methods can access the static variables in a class, but the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ss instance varia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methods are normally used for utility calculations that are independent of the data in a class,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n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n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AA0-F4A2-43C3-8B2A-6CF275C0D7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 Extended Math Cla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79400" y="2060640"/>
          <a:ext cx="577404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2060640"/>
                    <a:ext cx="577404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781680" y="4114800"/>
            <a:ext cx="19814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962520"/>
            <a:ext cx="914400" cy="3045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791320" y="4419720"/>
            <a:ext cx="990360" cy="3045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352680"/>
            <a:ext cx="106704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447560" y="3276720"/>
            <a:ext cx="1066680" cy="3808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FFD-D857-4AC3-A648-331393A513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lasses form a part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 hierarch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below a given clas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clas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above a given class are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super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class. The class immediately above a given class is known as 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mediate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inherits bo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it’s immediate superclass.   It can add additional variables and methods, and it 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hange) the inherited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C89-F8B5-4229-93E1-AEF739E624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of a Cla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jor components (members) of a clas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e the instance variables to be created when an object is instantiated from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u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special methods the define how to initialize variables when an object is instanti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mplement the behaviors of a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liz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a special method to perform cleanup before an object is destroy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9DF9-8506-445A-A486-3F17FBDF98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ember Access Operator (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mbers of a class (instance variables and methods) are accessed us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mber access 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t 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cess a member, the user names a reference to a object, followed by the dot operator, and followed by the member name (with no spa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200" spc="-1" strike="noStrike">
                <a:solidFill>
                  <a:srgbClr val="3333cc"/>
                </a:solidFill>
                <a:latin typeface="Courier New"/>
              </a:rPr>
              <a:t>Obj.a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Access instance variable 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200" spc="-1" strike="noStrike">
                <a:solidFill>
                  <a:srgbClr val="3333cc"/>
                </a:solidFill>
                <a:latin typeface="Courier New"/>
              </a:rPr>
              <a:t>Obj.method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method </a:t>
            </a:r>
            <a:r>
              <a:rPr b="0" sz="2200" spc="-1" strike="noStrike">
                <a:solidFill>
                  <a:srgbClr val="000000"/>
                </a:solidFill>
                <a:latin typeface="Courier New"/>
              </a:rPr>
              <a:t>metho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98A-A6E9-4362-85FF-10C753959E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3733920"/>
            <a:ext cx="2057400" cy="673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setTi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4648320"/>
            <a:ext cx="1218960" cy="8380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3657600"/>
            <a:ext cx="1828800" cy="3808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1600200"/>
            <a:ext cx="20574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1828800"/>
            <a:ext cx="373356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676520"/>
          <a:ext cx="548784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54878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553080" y="2286000"/>
            <a:ext cx="2057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 variable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286000"/>
            <a:ext cx="3200400" cy="2286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124080"/>
            <a:ext cx="20574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3733560" cy="6094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5181480"/>
            <a:ext cx="2057400" cy="673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elapsed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257800"/>
            <a:ext cx="28191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is method does not have a finaliz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3DD-CE26-412A-A053-94ACE01787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variables h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 sco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eaning that they are visible everywhere within a class, including withi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variable </a:t>
            </a:r>
            <a:r>
              <a:rPr b="0" sz="2400" spc="-1" strike="noStrike">
                <a:solidFill>
                  <a:srgbClr val="3333cc"/>
                </a:solidFill>
                <a:latin typeface="Courier New"/>
              </a:rPr>
              <a:t>saved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class </a:t>
            </a:r>
            <a:r>
              <a:rPr b="0" lang="en-US" sz="2200" spc="-1" strike="noStrike">
                <a:solidFill>
                  <a:srgbClr val="3333cc"/>
                </a:solidFill>
                <a:latin typeface="Courier New"/>
              </a:rPr>
              <a:t>Ti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variables within a method h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ck sco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eaning that they are only visible within the block in which they are defin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variable </a:t>
            </a:r>
            <a:r>
              <a:rPr b="0" sz="2400" spc="-1" strike="noStrike">
                <a:solidFill>
                  <a:srgbClr val="3333cc"/>
                </a:solidFill>
                <a:latin typeface="Courier New"/>
              </a:rPr>
              <a:t>e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method </a:t>
            </a:r>
            <a:r>
              <a:rPr b="0" sz="2400" spc="-1" strike="noStrike">
                <a:solidFill>
                  <a:srgbClr val="3333cc"/>
                </a:solidFill>
                <a:latin typeface="Courier New"/>
              </a:rPr>
              <a:t>elapsed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9F9-1752-491C-9D12-0B00C901F3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dden Instance Variab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possible for a local variable to have the same name as an instance variab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 within a bl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, the hidden instance variable can be accessed us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981080" y="3962520"/>
          <a:ext cx="5488200" cy="121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62520"/>
                    <a:ext cx="54882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400800" y="3581280"/>
            <a:ext cx="21337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5105520"/>
            <a:ext cx="21337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5486400"/>
            <a:ext cx="21337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hidden instance variables us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4800600"/>
            <a:ext cx="1523880" cy="5335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809880" y="3809880"/>
            <a:ext cx="2590920" cy="4572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514600" y="5105520"/>
            <a:ext cx="380880" cy="76176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082-62D0-4D71-AFEB-1E08AB6E7F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Types of Methods Found in a Cla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ain type of methods are common to many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are used to set the values of 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are used to read the values of 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icate 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ur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ult based on some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s a string representation of the contents of the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266-E1DA-4988-85E8-CFD6DFE4DA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01:27:35Z</dcterms:created>
  <dc:creator>Stephen J. Chapman</dc:creator>
  <dc:description/>
  <dc:language>en-US</dc:language>
  <cp:lastModifiedBy>Stephen J. Chapman</cp:lastModifiedBy>
  <cp:lastPrinted>1999-12-05T03:07:33Z</cp:lastPrinted>
  <dcterms:modified xsi:type="dcterms:W3CDTF">1999-12-05T03:10:16Z</dcterms:modified>
  <cp:revision>233</cp:revision>
  <dc:subject/>
  <dc:title>Master</dc:title>
</cp:coreProperties>
</file>